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2C37-9B34-4663-9D13-A46E52A4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D14-1496-46E9-9121-602C809E35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5E9-0D29-44AF-93E8-B204F9D18B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BE6D-A5BC-42C0-8092-D464B08FCB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7175-3D5F-485D-97E2-014EFF5488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7B1-0D70-4E0B-A0BE-26F672B547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3D21-C409-4E62-8609-7AC35635E5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32B1-52E3-46CE-BDD9-E24FB30145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2C33-FBD5-4025-A16C-683432998B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35B5-845D-45FB-869B-41FA09660F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F1E0-C3D6-48E7-95AD-92DEB13EE8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CAE-6CB1-4CCE-8F4D-086D617762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F53-746E-436C-AE1F-FD670C7F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3A0-4C5D-4AB8-A138-D4878A55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04C-F1DC-496E-8C39-6F6532CF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1DF-923B-44E0-BDAA-2CE21906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4874-33CD-4D95-B74B-68C63DD2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BE8A-0BE0-4CDE-A444-1FCE3A5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4CFE-37B9-46E1-9E77-5E92AEC6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378-D009-4A12-8E33-DCA2AAFF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6C38-BBE5-44B4-89B5-878DB42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2AE8-90B6-496D-8AA4-114D4FFE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08E-9339-4285-9D00-F0E06A50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1CF-BDA0-4998-9C98-18DCA55D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B395-75A9-4F8D-BA08-2ECB6A1B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383A-22C6-4D0F-A0EE-5E89C8B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C88-75BD-4CC6-A715-34FE41E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921B-765F-45B4-92F8-F5319ADD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D75F-CBA4-4FAE-884D-64D1301A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64AE-624E-442B-9617-FD277746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15C5-4485-4634-B9F9-AB11E54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F532-C49F-48C4-8782-971B0447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9DEF-0AEA-40B8-BEEA-B80AFEC3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F019-7527-4EFF-B7DA-269CF4A1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B43-91A1-4486-A55B-1BE1A137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F880-5677-4A0E-827E-55EF6047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4119-6AF5-4637-8034-398005A0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CCBB-480F-4743-8273-412B852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C4337-8145-4804-BA13-1467C37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FDBA-C706-47E0-BD05-64F57BD6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F56E-A9EA-4D7B-BF17-FE063F09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A212-2C94-461E-BF12-C0DA996C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7A57-058F-4E2E-B3E6-E1677485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1747-2D65-4230-8317-08416FE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7FB3-780B-450A-A694-09BD641B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445-8330-41C7-83F6-B751CE94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092F-3166-4FA2-A1C7-DBE03B0B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0FD3-8CAD-4448-B64E-6711036F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66B8-5EAA-4F2E-ACBF-0E20B73E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D59C-1F34-4B03-9757-9AF7111A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7678-8DB2-4641-96E7-03B18C6F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64F4-6E96-431D-ACD0-0B9D1AE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2B31-DC25-490B-9AB4-664BBB1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B34B-8160-4E7F-AE68-346D02E9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D5AD-320C-4556-B92E-C7C3F437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1222E-B8AB-4BAE-A5B7-E3C3825A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53D-82D1-42BC-A35A-A6066D6C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FF32-A86B-4928-9CEA-5BEBC745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1C931-4009-4314-99B3-63FBE26F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12B35-768E-41DD-8FA9-F2E10D40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9167-E371-45EF-AE12-651D715F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9040-AFFB-40B3-9CEB-BBDAEAB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58A41-FF81-41A9-A62E-44CCEE5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F333-7C88-489D-9132-C57B11F1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48CA-4351-44F5-9105-DD29ADBB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E2B3-976C-42C8-88F9-5B9C64EC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A5EB-F839-4C91-BE34-C5695DD7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396-885B-4EE6-B7F5-9A630644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90B3-B5B8-4AD9-8717-9E376150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38DB3-AEE9-4CD2-91EC-03089EF5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74B9-3981-486B-A2A7-B131998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28BA-FC6E-481B-87F1-7C8516B9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16A9-D7BA-49BE-8744-09696A84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2BEB-50BA-4F00-872B-3CFC2C10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8D0B-68B5-42B8-8A1D-57A165E8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5CECC-BCF2-4068-B62D-5EF6EC37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97939-79E2-475C-A3C6-54DC1ED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A2F0-A6C0-4914-9879-4B9F50AD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D94-6B53-41D8-B2C3-2479034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8CF9-378D-4461-BB4E-94F9B471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34AA6-2D6E-41C8-B1AE-21C8BC10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4E23-DF03-4167-81A1-5EC46B07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72C-FF43-47F0-955B-33F4FC09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635-F021-435A-868B-49C5C22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5EB8-C5D0-45BA-96A2-AE25776F8A1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B025-F088-4710-AABC-7D7CCE93A5C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E29E-E2EE-44E4-93AE-7B67F3FC87D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C6C-380F-451A-B99D-50223A14557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45D-C7E5-4539-AFB4-4065E8CF809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D039-5000-419A-BE1F-23F77155A8E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o Now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Tw Cen MT"/>
              </a:rPr>
              <a:t>Scientific Notation Convers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rite in Scientific Not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234,000,00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Tw Cen MT"/>
                <a:hlinkClick r:id="rId1" action="ppaction://hlinksldjump"/>
              </a:rPr>
              <a:t>Your answer: 2.34 x 10</a:t>
            </a:r>
            <a:r>
              <a:rPr b="0" lang="en-US" sz="2800" spc="-1" strike="noStrike" u="sng" baseline="30000">
                <a:solidFill>
                  <a:srgbClr val="6b9f25"/>
                </a:solidFill>
                <a:uFillTx/>
                <a:latin typeface="Tw Cen MT"/>
                <a:hlinkClick r:id="rId2" action="ppaction://hlinksldjump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How to change numbers in scientific notation to standard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1680" y="15998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rst, decide which way you are going to be moving your decimal poi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143000" y="2819520"/>
            <a:ext cx="6477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gative Exponent – move to the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itive Exponent – move to the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685800" y="412740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the decimal point the number of the expon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219320" y="53341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:  6.3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8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4572000" y="5321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3,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45720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00001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rite in standard notation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1320" y="1599840"/>
            <a:ext cx="312732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9.60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3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8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5.07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102200" y="1600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,608,00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4102200" y="25448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.000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102200" y="36878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.08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102200" y="4678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07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perations with scientific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2000"/>
          </a:bodyPr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Adding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 just add the first numb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r exponents must be the s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+ (9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= (4 + 9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</a:rPr>
              <a:t>Subtracting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 just subtract the first numb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our exponents must be the s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- (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) = (8 - 2)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3800" indent="-73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perations with scientific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74760" y="2338560"/>
            <a:ext cx="8540640" cy="304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0000"/>
          </a:bodyPr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Multiply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ultiply the first numbers and then the second number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You just add your expon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(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 (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 4)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Tahoma"/>
              </a:rPr>
              <a:t>= 2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2000" indent="-72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04920" y="4114800"/>
            <a:ext cx="8534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04920" y="5410080"/>
            <a:ext cx="8610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Operations with scientific notation.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308800" cy="487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Divi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ivide the first numbers and then the second numbers.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You subtract your expon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335240" y="3214800"/>
                <a:ext cx="647208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Text Box 9"/>
          <p:cNvSpPr/>
          <p:nvPr/>
        </p:nvSpPr>
        <p:spPr>
          <a:xfrm>
            <a:off x="1066680" y="4952880"/>
            <a:ext cx="365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mplify the expon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0"/>
          <p:cNvSpPr/>
          <p:nvPr/>
        </p:nvSpPr>
        <p:spPr>
          <a:xfrm flipV="1">
            <a:off x="4013280" y="3809520"/>
            <a:ext cx="457200" cy="12193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Exit Slip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. (7.5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+ (8.0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– (6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6.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) x (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(9 x 10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748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o Now Problem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tandard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7.89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0.4567 x 10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cientific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956,4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0.024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Answers to Do Now Problem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tandard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789,8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0.000456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vert into Scientific No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9.5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2.4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d0d0d"/>
                </a:solidFill>
                <a:latin typeface="Tw Cen MT Condensed"/>
              </a:rPr>
              <a:t>Operations in Scientific Notation</a:t>
            </a:r>
            <a:br>
              <a:rPr sz="5900"/>
            </a:br>
            <a:br>
              <a:rPr sz="5900"/>
            </a:br>
            <a:r>
              <a:rPr b="0" lang="en-US" sz="2900" spc="-1" strike="noStrike">
                <a:solidFill>
                  <a:srgbClr val="0d0d0d"/>
                </a:solidFill>
                <a:latin typeface="Tw Cen MT Condensed"/>
              </a:rPr>
              <a:t>Lesson 1.8</a:t>
            </a:r>
            <a:endParaRPr b="0" lang="en-US" sz="29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RS Standard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1680" y="1752480"/>
            <a:ext cx="8540640" cy="434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N 402: Understand a simple experimental desig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bjective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rite numbers in standard and scientific notat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erform calculations with numbers in scientific notat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hat is Scientific Notation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38512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number expressed in the form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-a number that is between 1 and 9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Tahoma"/>
              </a:rPr>
              <a:t>-multiplied by a power of 10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5998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8320" y="392544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96800" y="3751200"/>
            <a:ext cx="8153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ptune is 2,800,000,000 miles from the s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200400" y="5576760"/>
                <a:ext cx="18288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How do you write a number in scientific notation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x:  3,000,000,000,00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229280" y="5029200"/>
                <a:ext cx="1904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2" name="Text Box 6"/>
          <p:cNvSpPr/>
          <p:nvPr/>
        </p:nvSpPr>
        <p:spPr>
          <a:xfrm>
            <a:off x="228600" y="25909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is the decimal poi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62520" y="139716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80880" y="365760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ove the decimal point to the left until the number in front of it is between 1 and 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" y="51055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000,000,000,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3797280" y="4940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28"/>
          <p:cNvSpPr/>
          <p:nvPr/>
        </p:nvSpPr>
        <p:spPr>
          <a:xfrm flipH="1">
            <a:off x="3683160" y="5543640"/>
            <a:ext cx="304560" cy="18396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3960"/>
              <a:gd name="textAreaBottom" fmla="*/ 15948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29"/>
          <p:cNvSpPr/>
          <p:nvPr/>
        </p:nvSpPr>
        <p:spPr>
          <a:xfrm flipH="1">
            <a:off x="342828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30"/>
          <p:cNvSpPr/>
          <p:nvPr/>
        </p:nvSpPr>
        <p:spPr>
          <a:xfrm flipH="1">
            <a:off x="3187800" y="55497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AutoShape 31"/>
          <p:cNvSpPr/>
          <p:nvPr/>
        </p:nvSpPr>
        <p:spPr>
          <a:xfrm flipH="1">
            <a:off x="289476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32"/>
          <p:cNvSpPr/>
          <p:nvPr/>
        </p:nvSpPr>
        <p:spPr>
          <a:xfrm flipH="1">
            <a:off x="265356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33"/>
          <p:cNvSpPr/>
          <p:nvPr/>
        </p:nvSpPr>
        <p:spPr>
          <a:xfrm flipH="1">
            <a:off x="2400480" y="55371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AutoShape 34"/>
          <p:cNvSpPr/>
          <p:nvPr/>
        </p:nvSpPr>
        <p:spPr>
          <a:xfrm flipH="1">
            <a:off x="210744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AutoShape 35"/>
          <p:cNvSpPr/>
          <p:nvPr/>
        </p:nvSpPr>
        <p:spPr>
          <a:xfrm flipH="1">
            <a:off x="186624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36"/>
          <p:cNvSpPr/>
          <p:nvPr/>
        </p:nvSpPr>
        <p:spPr>
          <a:xfrm flipH="1">
            <a:off x="159948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37"/>
          <p:cNvSpPr/>
          <p:nvPr/>
        </p:nvSpPr>
        <p:spPr>
          <a:xfrm flipH="1">
            <a:off x="1308240" y="55371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utoShape 38"/>
          <p:cNvSpPr/>
          <p:nvPr/>
        </p:nvSpPr>
        <p:spPr>
          <a:xfrm flipH="1">
            <a:off x="1065960" y="5537160"/>
            <a:ext cx="304920" cy="184320"/>
          </a:xfrm>
          <a:custGeom>
            <a:avLst/>
            <a:gdLst>
              <a:gd name="textAreaLeft" fmla="*/ 52920 w 304920"/>
              <a:gd name="textAreaRight" fmla="*/ 22068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utoShape 39"/>
          <p:cNvSpPr/>
          <p:nvPr/>
        </p:nvSpPr>
        <p:spPr>
          <a:xfrm flipH="1">
            <a:off x="800280" y="5537160"/>
            <a:ext cx="304560" cy="18432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40"/>
          <p:cNvSpPr/>
          <p:nvPr/>
        </p:nvSpPr>
        <p:spPr>
          <a:xfrm>
            <a:off x="673200" y="4940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w Cen MT Condensed"/>
              </a:rPr>
              <a:t>How do you write a number in scientific notation?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x:  0.000063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3"/>
              <p:cNvSpPr txBox="1"/>
              <p:nvPr/>
            </p:nvSpPr>
            <p:spPr>
              <a:xfrm>
                <a:off x="2527200" y="4419720"/>
                <a:ext cx="2349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Text Box 5"/>
          <p:cNvSpPr/>
          <p:nvPr/>
        </p:nvSpPr>
        <p:spPr>
          <a:xfrm>
            <a:off x="380880" y="26668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move the decimal point to the right until the number to the left of it is between 1 and 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57200" y="4495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.00006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838080" y="4965840"/>
            <a:ext cx="304920" cy="18396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3960"/>
              <a:gd name="textAreaBottom" fmla="*/ 15948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1092240" y="4952880"/>
            <a:ext cx="304920" cy="18432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1320840" y="4940280"/>
            <a:ext cx="304920" cy="18432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1536840" y="4946760"/>
            <a:ext cx="304560" cy="183960"/>
          </a:xfrm>
          <a:custGeom>
            <a:avLst/>
            <a:gdLst>
              <a:gd name="textAreaLeft" fmla="*/ 53280 w 304560"/>
              <a:gd name="textAreaRight" fmla="*/ 221040 w 304560"/>
              <a:gd name="textAreaTop" fmla="*/ 24480 h 183960"/>
              <a:gd name="textAreaBottom" fmla="*/ 15948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11"/>
          <p:cNvSpPr/>
          <p:nvPr/>
        </p:nvSpPr>
        <p:spPr>
          <a:xfrm>
            <a:off x="1752480" y="4940280"/>
            <a:ext cx="304920" cy="184320"/>
          </a:xfrm>
          <a:custGeom>
            <a:avLst/>
            <a:gdLst>
              <a:gd name="textAreaLeft" fmla="*/ 53280 w 304920"/>
              <a:gd name="textAreaRight" fmla="*/ 221040 w 304920"/>
              <a:gd name="textAreaTop" fmla="*/ 24480 h 184320"/>
              <a:gd name="textAreaBottom" fmla="*/ 15984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80880" y="54864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ice that the exponent is negativ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800600" y="4800240"/>
            <a:ext cx="914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9:23:06Z</dcterms:created>
  <dc:creator>Karyn Baize</dc:creator>
  <dc:description/>
  <dc:language>en-US</dc:language>
  <cp:lastModifiedBy>Clemencia Acevedo</cp:lastModifiedBy>
  <cp:lastPrinted>2011-02-14T14:14:28Z</cp:lastPrinted>
  <dcterms:modified xsi:type="dcterms:W3CDTF">2017-02-06T10:49:13Z</dcterms:modified>
  <cp:revision>18</cp:revision>
  <dc:subject/>
  <dc:title>Scientific Notation</dc:title>
</cp:coreProperties>
</file>